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811-EE1D-4DEA-9C22-C480BA37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A55-A3FA-45C9-96C1-DBD8B91E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A8D-AA14-4E49-B0D5-FB8C5944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C80-BCFF-4E5A-90BC-41212A8A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8A62-EA2C-4E70-9CCF-CC119D96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3916-CE17-4D4F-B320-57F06B2C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E99A-0F25-4A60-8439-22C6361D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F410-0498-47D1-B0D6-7314F173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86F3-31F2-444C-92B2-DB656D6E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C7F8-AAB3-484C-941F-619050DC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E21F-5239-4925-AB3D-7C3BE964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E09-5370-4153-9E01-C5524905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8247-7B74-4008-AB9A-210447A7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F04F-5099-4C5B-B43B-A55C41D2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C91A-9A66-4492-9B79-14F172C6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78C2-CA21-4D13-8FE0-6810B11F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C1A0-4EBD-4CCC-B42A-04E05029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0FB-4E39-49E8-A479-7303A7CF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C50-6F23-48D2-825A-EF5540DC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9DB-04E5-4400-ADA6-F2C837BF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A7F-0D28-43F8-A506-651BB72A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99B-E86B-463D-916E-568CB1D1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244-F712-425F-823F-C7B392F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079-9E27-4EC5-9EA8-785CBE9D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093D-D151-47DC-9765-D7BD2A9B112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9795-256F-408B-BDA4-C4384CFAFAD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er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1)  Get out homework #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problem #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2) Open Up Grapher, It looks like a rainbow on your bottom b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3) zoom out till you see 5 on the x and y axix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106200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666880" cy="1758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934320" y="6019920"/>
            <a:ext cx="12636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 Go to eq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167360" y="228600"/>
            <a:ext cx="4976640" cy="3622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568680" cy="2940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966000" y="4141800"/>
            <a:ext cx="2178000" cy="2716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80880" y="4267080"/>
            <a:ext cx="632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 points.  Delete Column 3 and double click column 1 row 1 and start editing the points while tabbing to the next point.  Get all four points.  When you have A-&gt;C then back to “A” again, 4 click 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)  Go to eq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point set again, This time delete all the rows and colum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your little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these steps for b and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your mi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553080" y="4038480"/>
            <a:ext cx="2303640" cy="2340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81080" y="5181480"/>
            <a:ext cx="1148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  Now insert your eq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Equation, New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667320" cy="2986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4920" y="4724280"/>
            <a:ext cx="258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0440" y="4595760"/>
            <a:ext cx="92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 your 3 equations from little a to A, as well as b to 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 to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79132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three lines cross at the same point?  What is that poi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2160360" cy="2276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705720" y="1600200"/>
            <a:ext cx="13269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itu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lope of AB, BC,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B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BC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8288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19051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)  Graph the altitu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, B, C with the slopes to graph the altitudes and the New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720" y="2486160"/>
            <a:ext cx="583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A(1,4)   _|_m BC 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B(3,0)   _|_m AC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C(-1,-2) _|_m AB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160" y="29718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- 4 = m(x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71840" y="4114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m(x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181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2= m(x+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0481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B= -2 so _|_m AB = 1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114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= 3 so _|_m AC = -1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BC= 1/2  so _|_m BC = 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267080" y="5543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ph Problem 31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7:35:43Z</dcterms:created>
  <dc:creator>PA Department of Education</dc:creator>
  <dc:description/>
  <dc:language>en-US</dc:language>
  <cp:lastModifiedBy>PA Department of Education</cp:lastModifiedBy>
  <dcterms:modified xsi:type="dcterms:W3CDTF">2008-03-08T18:21:40Z</dcterms:modified>
  <cp:revision>2</cp:revision>
  <dc:subject/>
  <dc:title>Grapher Activity</dc:title>
</cp:coreProperties>
</file>